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584-B598-4E65-90CC-21E4BD13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4C0-F11A-4A85-AE6E-74BE8FF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DF0-1379-4E8F-81D7-F7CDB26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D21-FB9F-4094-9122-17A5426A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32A-D8D9-4A32-AFAF-DCD2D359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5CC-87DC-4321-9FA2-8E7118C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7E2-E4A6-45C9-9137-36D21DC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577-9619-4F29-99D0-275E318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5DD-B87D-46DC-8CF7-2B7BFA1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4F4-55F6-482A-9945-7B72C77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D9F-D7E2-40BB-A233-543D227F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FA6-50C7-4127-A17B-47D3663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0A3-E0CC-4C6A-98B7-7BD01D558C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ie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causes the changes in a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causes a species to change its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occur from exposure to radiation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rtain mutations may increase the chances of survival of an organisms and this will lead to the genes being passed on and the organisms ev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all different theories of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Darwin’s finches helped him to put forward a theory of evolution based on natura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y Lamarck’s theory of evolution was fla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r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602080" cy="143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309708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MPj03142900000[1]"/>
          <p:cNvPicPr/>
          <p:nvPr/>
        </p:nvPicPr>
        <p:blipFill>
          <a:blip r:embed="rId3"/>
          <a:stretch/>
        </p:blipFill>
        <p:spPr>
          <a:xfrm>
            <a:off x="6602400" y="1557360"/>
            <a:ext cx="2541600" cy="238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317340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Pj04018680000[1]"/>
          <p:cNvPicPr/>
          <p:nvPr/>
        </p:nvPicPr>
        <p:blipFill>
          <a:blip r:embed="rId5"/>
          <a:stretch/>
        </p:blipFill>
        <p:spPr>
          <a:xfrm>
            <a:off x="2987640" y="2924280"/>
            <a:ext cx="295920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250920" y="119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 these animals into a logical sequence, explain your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ie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theories of evolution but the 2 most well known are the on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ed one of the earliest theories of evolution in 18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ggested that the more an organ was used, the more it increased in size from generation to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he suggested that Giraffes had developed long necks and legs from generations of giraffes stretching to feed on the tall leaves of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his famous voyage on HMS Beagle, Darwin made many observations and collected hundreds of specimens that formed the basis of his Theory of Evolution based upon Natura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the fittest organisms survive to pass their genes on to the next generation. Organisms that didn’t survive obviously couldn’t pass those gen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of Camouf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y of modern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7:51:15Z</dcterms:created>
  <dc:creator>Sean Webb</dc:creator>
  <dc:description/>
  <dc:language>en-US</dc:language>
  <cp:lastModifiedBy>Elisa</cp:lastModifiedBy>
  <dcterms:modified xsi:type="dcterms:W3CDTF">2009-12-11T20:35:41Z</dcterms:modified>
  <cp:revision>3</cp:revision>
  <dc:subject/>
  <dc:title>Theories of Evolution</dc:title>
</cp:coreProperties>
</file>